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FF9-63E7-4A85-8549-4921A0F5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A33-1FE6-4513-BA04-0DCDB707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181-0C8B-4632-A6F3-CF806AA1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4C3-6D33-46B5-A406-97A2E311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76C-76A8-432D-B76F-12F4BA8A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8BB-8B82-4D9F-BD40-7B014634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EE7-0317-4634-BBAC-BBFBF68B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E24-D4C6-426C-BD66-D95A74E3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208-1C8C-4629-9B6D-5799212E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97C-6803-4D90-AC0D-D6DB633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86A-9C4F-4460-A0A5-26E1132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4F8-2C9A-47E7-884A-6874FB8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6BC-431E-4D6B-9C21-9F358D60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003640" cy="21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بالمسيح اعتمدتم.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المسيح قد لبستم. هللويا.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بإعتمادك يا ربّ في نهر الأردن ظهر السجود للثالوث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21600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فإنَّ صوتِ الآب كان يشهدُ لكَ مسمّياً إيّاكَ ابناً محبو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والروح بهيئةِ حمامة يؤكّدُ حقيقةَ الكلم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khbar MT"/>
              </a:rPr>
              <a:t>فيا من ظَهَرَ وأنَار العالم أيها المسيحُ الإله، يا ربّ المجدُ لك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3:13:41Z</dcterms:created>
  <dc:creator>Charbel Azar</dc:creator>
  <dc:description/>
  <dc:language>en-US</dc:language>
  <cp:lastModifiedBy>Charbel Azar</cp:lastModifiedBy>
  <dcterms:modified xsi:type="dcterms:W3CDTF">2003-01-05T13:26:49Z</dcterms:modified>
  <cp:revision>5</cp:revision>
  <dc:subject/>
  <dc:title>أنتم الذين بالمسيح اعتمدتم. المسيح قد لبستم. هللويا...</dc:title>
</cp:coreProperties>
</file>